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F0CC-8C6B-4734-BF13-6CE2A3196F2E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A74-DCC7-4C3A-B60D-F5763F4950F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5D74-8013-4771-A740-B2137D501A6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9C63-150B-41C8-824B-FC459976715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86B-652B-4CDF-8E2A-E9CD2134810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FA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A630-CF59-4ED7-8CA0-A0FCD655B5B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F87E-0F0E-4242-8542-AC1820D4439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C23-C936-4EB5-9F97-29D8A30E83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0AF5-5933-4BCF-9F02-C2B20B4781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F7DC-1AC2-4977-80A4-6D8CFBF65C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6F2-461A-477E-8AA9-333751B4E3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B5EE-7A50-41B0-B0E1-4413812273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9B87-3A29-4EAD-86BA-29A477B7054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5B50-1222-48BA-8B3A-27BBCEC241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6DC5-36C6-4274-AD8F-EBB77224B2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B90C-D767-42DF-93F2-7161361090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4C2D2-6DF7-4FFA-AD5F-FC655615E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A576C-A855-42DD-BB84-3180819654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7C21A-1205-44BA-88BE-D49B0A5791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31FA5-BAD7-4925-8E2B-7118711B5B9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24E9F-F3A3-4451-ACE8-86FBA1F898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BBFE8-347D-4683-9ABA-C991513537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523AE-A5D4-4192-B4E9-1E6C10A671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8A7E0-C451-42D3-AC53-1C58867CF0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8FCB2-DCEA-4540-8167-F982EA4558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DBD5C-4E34-4901-886E-478096E1B5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AD1C8-8DDC-43DE-9B40-96B1DA4EA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3BA5E-BC3B-41A2-B2F5-C5AAA2C6D17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76AE8-02E1-4214-AD7B-7820E61FE9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E90EB-F250-4FA3-B609-07D0E59614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55293-BDFC-4B64-98B6-EF965D7438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247CF-1030-4C4A-88D0-C62FDDCFD0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73AAA-9FA5-4EDD-93C3-32D355DFE2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2117A-9DD3-4CC1-9942-E5CA821B82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CC185-71A9-4B57-8EDD-FD9ECC0129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375F6-13F3-4E12-8D34-A6F3D58F6E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A7051-0422-4D6A-AD41-52D6E927F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1A00-4721-4E32-8E69-178F5621F1D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5419C-1B0C-46BF-8695-89684997328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31485-60D9-44C1-9C39-5E68A041BA3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6222F-2C68-4557-AB1F-9BABB59C8E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F86A-AEF3-4AB3-B916-80009366A2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9E84-3CA2-44C5-B585-47704468FBC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3498-320E-4BBF-9EEA-DE558142A9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429A-0EA0-4E08-B259-5E38F4D167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38DD-4D6D-4D3E-BF87-0FD67ABDA9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2602-9ACD-46A3-B3BD-888010FCFF9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B0AD-BCB0-49CF-8418-746DC15838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1334-C78E-44A1-84A2-9869B312C8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DF7C-8D01-41DC-BF77-A03AFDFA71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EBDD-756A-473D-8D17-E349714F23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F2D2-9A8C-483D-9621-D375A1669A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2617-82F5-4DE4-B9C3-0F5BF82302F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5A73-EEE3-48D5-AC70-B8F39936CE5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C4975-F757-488B-913D-55481BCAEC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6457D-02E2-4AD0-B376-3FB52285F9C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97E7E-DA79-4066-A6D7-734E67687F9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31984-B1D3-4992-9888-B9A81A6541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2F311-139C-4DA9-8C99-2F96AD1461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119F-6AD0-4848-9239-FE6F60E61BE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5F15D-E411-493C-A73B-00C8AF0814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666DF-3947-44EA-8226-7318BDBBD1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DC2F3-6B62-4946-A87C-506DF92455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6A281-E249-4BFD-AB61-180560A4AE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624AC-2F5E-448B-98A5-206F585F01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32FC0-9926-4D55-AD72-45FA89033B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AF1B1-410C-4C8E-9F23-46B04110196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1480E-3FB9-4522-A8EE-F23584B5776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9955F-C034-4D20-A99E-AD5891BD61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4DE96-04B7-49B4-B025-24EE86F3B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E7E8-4EF7-43B7-8C22-E9EC5E8D2A6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9F9FA-3B8E-4B1C-A1CD-1C5011C8C83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983F7-7223-4EAE-AF02-7029A97B66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B04D4-E760-48FA-A1F2-B6B4A295D8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F4FB5-FFA4-454E-997E-FC61689976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380DF-0463-4D92-A331-4D3196807BE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C7FA9-4F73-4EFB-8AD9-0A9879D7F04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3053B-43D4-4FEF-A062-A00F25574F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D2C69-4E60-429E-A70E-110ABEB2C2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10F8C-930A-43EA-B589-3FD95688476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13C2-652A-4C17-AEDF-1C2CC3BCCC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A3ED-7026-4D80-97B4-A2511A78971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88B1-E34C-4790-A716-5D87E33D956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1310-0EF3-438D-991E-03CB8DD21CF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CAA5-02E1-4A1C-8769-D775FE9F0D1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10C3-D127-40B4-B858-FE5927B00C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59C5-BB32-466B-8CCE-FB1500815FB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1764-DBE1-49DF-9C4F-DC55C73E241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362F-4505-4634-8F2A-048D285DFD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C6AF5-2B61-4398-B8E5-1DC791FD99A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7816-6852-44E5-83EA-8C71C03CEE7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C834-F591-43CF-AE7C-F88D1A3E0F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5FC6-820B-48D3-8B37-12DE6334D82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630A-CC5E-42BE-A33A-063AD380077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9E2963-70A5-4790-93EE-C188B74C92D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071D2-06F9-4098-BCB5-8A0E0E2ECD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B4D59-243C-4809-90B0-4009A7F8964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E4CC4-866A-4F54-98A5-AA40944D9F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4371A4-FDB4-4ABB-80DA-5C21739B681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281AB-BEDC-462E-90D7-408404F5EBF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689B0-EBED-46D5-A05A-039869FD630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2BA8F-DADD-483E-ACF7-4D9348940D8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3333B-3B17-4252-8F05-E8897C325E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157D-EDA2-4334-BD9F-34689348147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E839E-3A03-4C58-8AA8-148A2318F5B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1DEA2-7C40-4585-AA12-34D86A864B8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A2C57-50B0-496F-A5C6-CFE5A0D6004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F994A-4EA8-4B98-8EA5-80A5CD5CB3C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974C8-860B-4CFF-8FDF-FAC070EB567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8CE1A-7CD9-4DD0-97AA-A7062BE32D9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59A93-C6D6-4016-A11D-F10AD2132C3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1365F-49B8-4027-B375-7323B9E73F0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0AB2F-ADE0-4D76-9099-6BDE310AF98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7FD28-D03E-4B16-B263-DD80C23BE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E85B-41F0-4DE4-A935-6F769C07DFE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79B7C-110F-4904-BB4A-6CAF45D8969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C05BC-EDBA-4C77-AFA6-EEB56EA1881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CAB42-3872-469D-B02C-B9EBB1780B7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DE523-325B-4EEB-9B37-E0DDF94E3A7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200F4-FB8C-4C6F-AED6-EB27CD17F0D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6827-CFCA-4FA6-8AEA-2F2C3B67DA0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B1F4-A8BA-4ED7-85AA-E3A49A7888B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3A04-D50C-4292-807F-0D5ED332B29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EF77-964F-4FED-B0F7-6A265D41B82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5A77-4CF2-4CA4-9D51-8181C44B7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2C2C-EC8A-4C08-87C5-C07972485E4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9FD4-B074-4EE0-9676-B82317A4C94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AE4E-D605-408A-BA49-E916C076D47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C232-B625-48A9-AB3F-BD93073097A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7409-58B9-4E62-97B0-68F8DCAE011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A0CA-C15A-4660-807A-4A4BA3B6A24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2D2E-6094-40C9-B4EE-A962DBA0C32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AB97-5D29-4BA1-86A8-8B6C021E0B1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333A8-773F-458D-86ED-D08BB66F9E4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31CC2-DAF4-43D0-96C5-34BCB1940FB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84562-1AF9-4C7D-8304-FB840F733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3459-4911-41CB-B36E-340AAE960A7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68061-54F6-45A0-B26E-E62C7C400AD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70FD4-89B3-4713-8342-61B7A7A74B3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CC23C-850B-4D7F-9454-332AD851642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34C2B-F998-4859-BEC0-2C548A3EA98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6CC08-A6ED-4E7E-8FF9-9B93D428CD8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090777-EDFF-4A0C-AE06-F363C65CD51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40DA89-AB32-4239-A26D-B7BF511D52A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783D0-F4E8-46DE-A030-B6A2BABD437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09FC7-433F-49DE-8DAA-F3CF50AA9C4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8C77A-71AD-4DD8-B527-05AC7ABA7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DBB4-33D2-4F97-9EA3-A88F42B0C28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DB833-898A-4D96-81D7-780FE18FE30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11D88-9B6B-4624-B584-7D5FBC5FC42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F68B9-4CE0-4DA8-934D-3CF5C436A4B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2ABA5-0109-44AF-840B-34E041D772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3AD94-DF9A-490E-951B-F44D7815A3C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0AD32-6147-4280-A8E0-110A8C825A4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8790E-9594-4007-9811-C5BDCE2A5C2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B4CAA-54D9-418A-AB1E-B14BBCBB84A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436A2-C9B5-4CBE-8838-616B6236288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0D489-B876-4870-A0D7-6BFC24B293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5D32-91DE-4F8A-94B5-09C1DD15A65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8C27B-73F9-42D1-A34E-15865553779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42B8-EE0E-4088-B6AD-A6030271A8B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EDEAD-6195-476D-AFC6-1D7DE5271EE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8A38-6155-405B-9603-361A5D5D204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F858-25A3-4C4C-BAA5-C3556C77AE3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8766-F3C9-41A2-9C7C-ED704EFD775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B4E2D-EDFD-44EE-9BBE-C98F8DEB859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F080-C66A-49D5-9C6D-878D8732BF2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E4EA-D9F7-46DD-BE35-4D2C26F37AD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10D8-8419-4D5C-95C7-3C205747ED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F7584-40C9-48C9-B752-FB4ACB457BD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B7F1-0BB1-4FCD-AAAA-C51DD67A152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36E5-B7DE-41CE-8FBB-37765DBEA53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D6278-8899-44E0-A49C-D8474EA967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2E014A-9C74-4CFE-98AE-A324154BE0C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8B7837-E7D9-468E-A774-927682AF55D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87214-0B3A-4F37-BB36-B6FC3093E5A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825B7-1324-4749-9D17-1065676C4F5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504FA4-320D-474C-A4C1-B2143FED35D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D5B86-D27F-469E-90BB-F1BB5B3B9A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13E23B-86AF-4697-B621-9213512ACF6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02C436-FB97-4FC7-B044-50504470D03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A78E32-DA4C-46CD-9A17-6D4E605F9DC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7AC1E2-B21C-429B-8AA1-043076E7B51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1A446-FC9D-4E34-B2A8-1F862298DE9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9320B-82C7-4AC3-BF04-A639114A96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19B42-4911-47F6-BCD6-64A16BBF32A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B3A43-172F-4DC4-8C86-042AEE433FE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CC4CB-254A-43C0-89FC-9FA05E420FC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378C5-AB38-4273-A749-D132472B14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D82F3-5E16-4535-A216-9F0579CDBB9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3C86A-9863-4E0E-ACA5-72F39E65657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58755-2860-4285-A3DB-D767044C9C5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3EC75-0B86-4017-962A-95E0A358A34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D5958-7064-4A69-B7AF-58F2D3EB57B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96F28-B59E-42C7-A00D-62FF5DA583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3F3D4-F72C-46E3-BE06-71F2079AD9A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73758-58D3-43A6-BAD0-DE65DC82D50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38A4-AF4A-488A-A043-709EF8F777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936E7-0755-443D-8D3B-626349D1EA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4184-6F59-41E5-BD4C-DBF7B9BF8F9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0BDF-0FF3-4A68-B122-97A3823AFAA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6C82-3480-4FD2-B1FA-62E4CD44B7D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16E6-DD09-415E-B11A-E5DE930EA4E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17CC-ACA3-4A6F-8310-E0C66605472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C47A8-E842-4AE9-9ABD-4A313263552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1E13E-799D-4601-9E0B-53494C34F76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BE2E-8B8D-40E1-9A49-8FF64FB4DC1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E8567-1666-4F68-BF45-61C50AB82BC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79283-A89B-4DB6-B15D-796B782A51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3E7046-C0AF-4909-967A-BA1121A051E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C2D1B-A9D1-41CB-BA54-5A08951452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878822-8AE4-4030-B0E0-49903B6799A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06188-C6EE-4543-8187-5A0F3956B53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0BCBB-09F1-4D6E-8E71-5F2978FAE1E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49381-AFC8-4FFB-9C0B-5F37C92C538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373B0-120F-46F0-AC62-71FE43150A1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3F991E-B7EB-4B54-89A6-5A377E9C72E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CF9986-F4A4-4303-860D-2216DDF9D9B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FE5BFF-E82B-4A1D-B37C-B54816151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7DEE52-1004-4C0E-861D-A80E667BD05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30673-9AE8-49D7-9B0F-E1BDBAAF5F1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A9799D-042B-4EC7-8FD0-3FABC727960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94607-7B0A-45B0-BC2E-3B3DFFB76B4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31495-4758-4291-9DD2-B47FF6F8B7D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BBBB3-ED43-41D2-B4B5-72ACA93F64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28885-1ECB-4B89-927A-E79270AA4B6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763D5-A87E-4AD5-AFD5-301DE4D24DD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68A64-4424-4B27-B279-B33F0F4450D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8C764-72B0-48A3-88AF-1BF008E857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CEBA6-FCA6-4EE9-B0C3-E3EE63CBB75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B00F3F-E26E-48A4-8802-B8A42886B16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B10B2-D139-4C12-916D-E7A1B1E3FBC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E60B-9375-4A12-908B-852BF277AE0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9687-DAEB-4D9F-BB69-E78DC48DD5E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C3C3-9490-4025-A450-1DB3CFA8EF3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5886-7699-428C-94A2-F63FD2B9F20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14798-D806-4EA4-8AA6-DA995918F73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96022-6E82-42B3-AAEE-0E784168902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31C6-B36F-4046-B93E-C8A9B73D98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D51E8-51BE-429F-8886-05BECC33221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F1FE-9E30-4FFE-B25F-7F5CCC30CB8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AB4C-52C6-41C1-8B9B-BD2481678E3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76AB-6BC5-45CD-812E-4F98688C7AD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56B39-73A2-4F64-829E-4B013CEC4F1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1F50-BF5B-4036-AB2F-4B7BA131A3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8751-B69F-4291-94F6-E151040D7D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0E09-2F01-4F7C-A51B-E11B7123F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A2B2-FC26-460F-9386-54DCCD8A4F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5A0D-81C0-437F-A77D-150A815F7D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61BA-75C1-427E-B950-F38A9460C4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AD10-BA18-46E7-B852-5E8221F02E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E53F-27F3-4979-B832-F7046277BA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9A22-23E4-421D-BBBB-238E7711CF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0E66-1344-4CAC-A0F9-FCE4104153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A5DD-F3D2-4554-AFF8-C6F2F29CEB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DDB8-98D7-4210-812B-77F677AB51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8CF-C9D9-4401-A570-4CE28A792D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516-92DA-4D05-9E28-42A0F87854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8D0-FEA3-4ED8-8B3A-D0E22041C1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48A-21DA-416B-BA8C-E9F0E5D569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A25-C062-4382-88D7-3E59C419DC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0B3-5CEA-4A3F-BD87-9F77852B42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C3B-DCB6-49CC-9006-EF9B5F24D8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648-1C92-4A17-8A05-D948272AFB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246-1E91-4506-A284-C90284747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B1B-8767-4CF2-8C53-8031CBD1935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B6D-8425-464B-AD74-3B57C6E344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E1A-06A6-4E07-9162-B01D167713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047A1-856B-44CD-A27F-FA3E071BE4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25E9B-AD75-4E8A-84B2-5D3D0A6331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711E8-16FE-4EAA-B8AD-25F1B5B60C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DA42-0302-4FA0-B4CC-B927AE251D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DCC0-C0F5-4502-94B7-CFC765FE53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2B1C8-E3AB-4533-AB56-1D0B9DD0A5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34EC-AE23-4318-ADB5-DD9814A08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EE710-4977-4D6E-93FB-3B461BDDEA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54544-1A7A-4CE3-8110-C86337DD05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E6401-2378-4B52-A3A3-3846C26327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D066B-FC3F-4C9F-BA71-7552FDDB99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0EC76-C41D-4D71-9420-FB394829A2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05D3-FBE6-434A-A2F1-BA6E72BD79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ADF61-0660-46E7-ADAD-9E121663702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F7D69-2B38-4B7D-A9CC-53C534B359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B54EB-13D7-4AE3-BA0C-F1C9E6DC43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0948-8DB1-4F93-A200-CE750959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61496-7D3D-4D37-A13A-6488B0430A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732E-4488-4B50-B4B1-7FDBEBCA75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BBCC-9467-4B81-A1F3-7032A87B07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BBB8A-D768-41CB-9A4C-4B30AC4736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7E087-C613-40B5-9736-C539994B35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3A69A-6911-450F-97A2-30C96984B6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03407-534D-4504-B44C-23902BBC6E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54F7-748C-48E1-9DA7-602E057562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31EA-4CF3-4FDA-A9C2-F381135CB5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DC98-E0FA-43B6-9EFB-E35B93F06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179-5DA4-4DEB-932F-765130CA63F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F21-7E1D-4BD0-93E2-5585595F245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A7B8-CBE2-4D7A-8548-C759D5B5AD2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1C74-E5A0-4101-A9D2-C0266F4290E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A0B0-220F-4968-8285-5B68756425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76BB-C264-4F83-B466-3D987D2B124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3A0B-F645-4DD5-A4CB-6E45722CEDA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4676-8FD0-4268-A62D-B49AFC4B0E5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AA8B-7BB3-4BEA-91D4-478F09A1728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A214-25C3-49D4-9B1C-BBAACE3B6CA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2BC4-76A3-4FCC-BC66-C639F489FCA1}" type="slidenum">
              <a:rPr b="0" lang="es-CO" sz="2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67AB-1726-4E06-9128-6817BF830A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C22-9154-410D-BCA4-3A0259C5C14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F52A-BA9D-4881-B615-26232567F0F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68E-0A41-462A-A0E9-8563ACF394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3367-8651-4F82-9460-FDF5AA45A15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B00-9280-4A67-BD32-73C284A0030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4764-4C2F-4B4A-8EFD-63CB63D52AF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D215-0720-448B-9E63-6FE7FD17D66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B8A3-A820-4BFB-912C-9FAEA4A4D393}" type="slidenum">
              <a:rPr b="0" lang="es-CO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AE89-D063-4C05-86A6-9DE0E42A7B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75A-C348-45D3-B112-089BAFD4548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E7F7-8C8D-42C4-AF19-3A40D3168A3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896A-D11D-400A-8266-88EC81D405B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 Andr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1763640" y="3254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5 CuadroTexto"/>
          <p:cNvSpPr/>
          <p:nvPr/>
        </p:nvSpPr>
        <p:spPr>
          <a:xfrm>
            <a:off x="691200" y="5235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685800" y="54957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industria manufacturer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1 Objeto" descr=""/>
          <p:cNvPicPr/>
          <p:nvPr/>
        </p:nvPicPr>
        <p:blipFill>
          <a:blip r:embed="rId1"/>
          <a:stretch/>
        </p:blipFill>
        <p:spPr>
          <a:xfrm>
            <a:off x="1042920" y="1041480"/>
            <a:ext cx="66978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465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Mayo - octubre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1494000" y="325440"/>
            <a:ext cx="68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691920" y="4917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4"/>
          <p:cNvSpPr/>
          <p:nvPr/>
        </p:nvSpPr>
        <p:spPr>
          <a:xfrm>
            <a:off x="663480" y="5167440"/>
            <a:ext cx="764712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^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o incluye patrón empleador,  empleado doméstico, trabajador sin remuneración incluye a los trabajadores familiares sin remuneración y a los trabajadores sin remuneración en empresas de otros hogares y ot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1 Objeto" descr=""/>
          <p:cNvPicPr/>
          <p:nvPr/>
        </p:nvPicPr>
        <p:blipFill>
          <a:blip r:embed="rId1"/>
          <a:stretch/>
        </p:blipFill>
        <p:spPr>
          <a:xfrm>
            <a:off x="1001880" y="1235160"/>
            <a:ext cx="71402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1539720" y="3254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5 CuadroTexto"/>
          <p:cNvSpPr/>
          <p:nvPr/>
        </p:nvSpPr>
        <p:spPr>
          <a:xfrm>
            <a:off x="691200" y="4878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684360" y="5157720"/>
            <a:ext cx="82785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^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o incluye  patrón empleador,  empleado doméstico, trabajador sin remuneración incluye a los trabajadores familiares sin remuneración y a los trabajadores sin remuneración en empresas de otros hogares y ot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8" name="2 Objeto" descr=""/>
          <p:cNvPicPr/>
          <p:nvPr/>
        </p:nvPicPr>
        <p:blipFill>
          <a:blip r:embed="rId1"/>
          <a:stretch/>
        </p:blipFill>
        <p:spPr>
          <a:xfrm>
            <a:off x="1089000" y="1168560"/>
            <a:ext cx="6950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1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3419640" y="37987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Mayo - octubre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1120680" y="32544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685800" y="5433840"/>
            <a:ext cx="82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5 CuadroTexto"/>
          <p:cNvSpPr/>
          <p:nvPr/>
        </p:nvSpPr>
        <p:spPr>
          <a:xfrm>
            <a:off x="69192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7" name="1 Objeto" descr=""/>
          <p:cNvPicPr/>
          <p:nvPr/>
        </p:nvPicPr>
        <p:blipFill>
          <a:blip r:embed="rId1"/>
          <a:stretch/>
        </p:blipFill>
        <p:spPr>
          <a:xfrm>
            <a:off x="1547640" y="1042920"/>
            <a:ext cx="62373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Mayo - octubre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250920" y="2254320"/>
            <a:ext cx="259236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Mayo - octu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6 Rectángulo"/>
          <p:cNvSpPr/>
          <p:nvPr/>
        </p:nvSpPr>
        <p:spPr>
          <a:xfrm>
            <a:off x="2843280" y="5513400"/>
            <a:ext cx="6300720" cy="200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1 Objeto" descr=""/>
          <p:cNvPicPr/>
          <p:nvPr/>
        </p:nvPicPr>
        <p:blipFill>
          <a:blip r:embed="rId1"/>
          <a:stretch/>
        </p:blipFill>
        <p:spPr>
          <a:xfrm>
            <a:off x="2871720" y="260280"/>
            <a:ext cx="6272280" cy="5832720"/>
          </a:xfrm>
          <a:prstGeom prst="rect">
            <a:avLst/>
          </a:prstGeom>
          <a:ln w="0">
            <a:noFill/>
          </a:ln>
        </p:spPr>
      </p:pic>
      <p:sp>
        <p:nvSpPr>
          <p:cNvPr id="1266" name="2 CuadroTexto"/>
          <p:cNvSpPr/>
          <p:nvPr/>
        </p:nvSpPr>
        <p:spPr>
          <a:xfrm>
            <a:off x="0" y="5237280"/>
            <a:ext cx="27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*El total de las 23 ciudades no incluye San Andrés por tener una distribución de la muestra diferente. Los resultados presentados para San Andrés corresponden al período mayo - octubre 201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3"/>
          <p:cNvSpPr/>
          <p:nvPr/>
        </p:nvSpPr>
        <p:spPr>
          <a:xfrm>
            <a:off x="1254240" y="260280"/>
            <a:ext cx="67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ayo – octubre  (2012 -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2 Objeto" descr=""/>
          <p:cNvPicPr/>
          <p:nvPr/>
        </p:nvPicPr>
        <p:blipFill>
          <a:blip r:embed="rId1"/>
          <a:stretch/>
        </p:blipFill>
        <p:spPr>
          <a:xfrm>
            <a:off x="1214280" y="1405080"/>
            <a:ext cx="6848640" cy="4222440"/>
          </a:xfrm>
          <a:prstGeom prst="rect">
            <a:avLst/>
          </a:prstGeom>
          <a:ln w="0">
            <a:noFill/>
          </a:ln>
        </p:spPr>
      </p:pic>
      <p:sp>
        <p:nvSpPr>
          <p:cNvPr id="1269" name="9 CuadroTexto"/>
          <p:cNvSpPr/>
          <p:nvPr/>
        </p:nvSpPr>
        <p:spPr>
          <a:xfrm>
            <a:off x="12603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1258920" y="620640"/>
            <a:ext cx="67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ayo – octubre  (2014 -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9 CuadroTexto"/>
          <p:cNvSpPr/>
          <p:nvPr/>
        </p:nvSpPr>
        <p:spPr>
          <a:xfrm>
            <a:off x="1553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1 Objeto" descr=""/>
          <p:cNvPicPr/>
          <p:nvPr/>
        </p:nvPicPr>
        <p:blipFill>
          <a:blip r:embed="rId1"/>
          <a:stretch/>
        </p:blipFill>
        <p:spPr>
          <a:xfrm>
            <a:off x="1606680" y="1666800"/>
            <a:ext cx="6073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4"/>
          <p:cNvSpPr/>
          <p:nvPr/>
        </p:nvSpPr>
        <p:spPr>
          <a:xfrm>
            <a:off x="1065240" y="836640"/>
            <a:ext cx="7380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  (2014 – 2015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1 Objeto" descr=""/>
          <p:cNvPicPr/>
          <p:nvPr/>
        </p:nvPicPr>
        <p:blipFill>
          <a:blip r:embed="rId1"/>
          <a:stretch/>
        </p:blipFill>
        <p:spPr>
          <a:xfrm>
            <a:off x="117360" y="2492280"/>
            <a:ext cx="89074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3"/>
          <p:cNvSpPr/>
          <p:nvPr/>
        </p:nvSpPr>
        <p:spPr>
          <a:xfrm>
            <a:off x="3419640" y="3798720"/>
            <a:ext cx="5256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Mayo - octubre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1133640" y="325440"/>
            <a:ext cx="68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1133640" y="5084640"/>
            <a:ext cx="732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industria manufacturer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1139760" y="4848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1 Objeto" descr=""/>
          <p:cNvPicPr/>
          <p:nvPr/>
        </p:nvPicPr>
        <p:blipFill>
          <a:blip r:embed="rId1"/>
          <a:stretch/>
        </p:blipFill>
        <p:spPr>
          <a:xfrm>
            <a:off x="1133640" y="1096920"/>
            <a:ext cx="7153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0:52:06Z</dcterms:created>
  <dc:creator>mcpuellog</dc:creator>
  <dc:description/>
  <dc:language>en-US</dc:language>
  <cp:lastModifiedBy>Andres Francisco Mejia Bocanegra</cp:lastModifiedBy>
  <cp:lastPrinted>2015-02-03T15:38:35Z</cp:lastPrinted>
  <dcterms:modified xsi:type="dcterms:W3CDTF">2015-12-03T21:04:42Z</dcterms:modified>
  <cp:revision>318</cp:revision>
  <dc:subject/>
  <dc:title>Diapositiva 1</dc:title>
</cp:coreProperties>
</file>